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45CB-A299-41F3-B772-03267D790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0FB8-E006-43C1-9EEA-CD55311E64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0143-4093-4CCB-B4A9-DEC5937C69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ED4-B4C3-4842-BD8E-BE402E55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21E-FFF1-4054-BE31-1EEFA66A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FA8-E3D4-43FA-B6FF-374074FF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BEF-5AC0-496E-89B4-C41C8DD9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E45B-F2A6-4F4C-AB25-32A60CE0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9036-41D8-4FF1-B0FB-E0D0BAB6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F2DB-7544-4DF3-9613-6166D519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2834-86BA-4D5E-A04D-241B8278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44B2-404B-42A0-82CA-4F456843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4704-0AD0-4891-AE91-0756C0AA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88F2-1DD2-4597-A3D6-3E63921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93D-16BC-47D3-AA06-FDD95BFA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5687-E7A7-4B29-8F78-3D9FEE4A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D242-3C6E-456B-B2CF-46D8E831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178C-7455-42EF-9654-41465867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11E3-AF53-4E2A-BD43-8A9247F4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8982-6EF1-44F8-A637-778BDCDF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15D-51C1-4200-A107-FFC75C56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B25-37E7-41D3-A6A2-85E7030D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1D5-4F2A-43C9-84C6-A6A1E215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F7A-B853-4CFC-95EC-23A814B6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E8D-693B-49E9-BC2D-106C92E1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143-F129-4F07-B029-7F5330A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F7D-C9B2-4BC1-B017-2CE9FE4D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5F5E-4381-43D7-ABA8-656C89C9639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5491-F3D9-40D6-A5C3-0EBC7F28EB2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260720" y="2133720"/>
            <a:ext cx="662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нструмент дл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 молотах и пресса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Объект 5" descr=""/>
          <p:cNvPicPr/>
          <p:nvPr/>
        </p:nvPicPr>
        <p:blipFill>
          <a:blip r:embed="rId1"/>
          <a:stretch/>
        </p:blipFill>
        <p:spPr>
          <a:xfrm>
            <a:off x="2089080" y="1600200"/>
            <a:ext cx="4965840" cy="4530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2359440" y="83808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ставки кузне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Объект 4" descr=""/>
          <p:cNvPicPr/>
          <p:nvPr/>
        </p:nvPicPr>
        <p:blipFill>
          <a:blip r:embed="rId1"/>
          <a:stretch/>
        </p:blipFill>
        <p:spPr>
          <a:xfrm>
            <a:off x="2036880" y="1600200"/>
            <a:ext cx="5070240" cy="45306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2220120" y="304920"/>
            <a:ext cx="46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ставки пустоте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Объект 4" descr=""/>
          <p:cNvPicPr/>
          <p:nvPr/>
        </p:nvPicPr>
        <p:blipFill>
          <a:blip r:embed="rId1"/>
          <a:stretch/>
        </p:blipFill>
        <p:spPr>
          <a:xfrm>
            <a:off x="457200" y="1673280"/>
            <a:ext cx="8229600" cy="4384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2242440" y="304920"/>
            <a:ext cx="46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тки полу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1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2044800" y="1600200"/>
            <a:ext cx="5054400" cy="45306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491920" y="304920"/>
            <a:ext cx="406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тки клино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2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338560" y="304920"/>
            <a:ext cx="427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 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3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Объект 6" descr=""/>
          <p:cNvPicPr/>
          <p:nvPr/>
        </p:nvPicPr>
        <p:blipFill>
          <a:blip r:embed="rId1"/>
          <a:stretch/>
        </p:blipFill>
        <p:spPr>
          <a:xfrm>
            <a:off x="490680" y="1665360"/>
            <a:ext cx="8162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Объект 4" descr=""/>
          <p:cNvPicPr/>
          <p:nvPr/>
        </p:nvPicPr>
        <p:blipFill>
          <a:blip r:embed="rId1"/>
          <a:stretch/>
        </p:blipFill>
        <p:spPr>
          <a:xfrm>
            <a:off x="457200" y="2014560"/>
            <a:ext cx="8229600" cy="3701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877400" y="304920"/>
            <a:ext cx="522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 треуголь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4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64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Объект 4" descr=""/>
          <p:cNvPicPr/>
          <p:nvPr/>
        </p:nvPicPr>
        <p:blipFill>
          <a:blip r:embed="rId1"/>
          <a:stretch/>
        </p:blipFill>
        <p:spPr>
          <a:xfrm>
            <a:off x="485640" y="2209680"/>
            <a:ext cx="8229600" cy="4192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1987200" y="228600"/>
            <a:ext cx="522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 треуголь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сторон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5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Объект 4" descr=""/>
          <p:cNvPicPr/>
          <p:nvPr/>
        </p:nvPicPr>
        <p:blipFill>
          <a:blip r:embed="rId1"/>
          <a:stretch/>
        </p:blipFill>
        <p:spPr>
          <a:xfrm>
            <a:off x="500040" y="213372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702520" y="228600"/>
            <a:ext cx="382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жимки 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ужин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6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Объект 5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816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2473920" y="228600"/>
            <a:ext cx="382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жимки 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ъем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7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1452600" y="1600200"/>
            <a:ext cx="6238800" cy="45306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2423520" y="304920"/>
            <a:ext cx="44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ладки клино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8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038600" y="2209680"/>
            <a:ext cx="694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 для свободной к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азделяется на три групп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997280" y="304920"/>
            <a:ext cx="495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односторон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30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Объект 6" descr=""/>
          <p:cNvPicPr/>
          <p:nvPr/>
        </p:nvPicPr>
        <p:blipFill>
          <a:blip r:embed="rId1"/>
          <a:stretch/>
        </p:blipFill>
        <p:spPr>
          <a:xfrm>
            <a:off x="1731960" y="1600200"/>
            <a:ext cx="568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Объект 4" descr=""/>
          <p:cNvPicPr/>
          <p:nvPr/>
        </p:nvPicPr>
        <p:blipFill>
          <a:blip r:embed="rId1"/>
          <a:stretch/>
        </p:blipFill>
        <p:spPr>
          <a:xfrm>
            <a:off x="457200" y="2225520"/>
            <a:ext cx="8229600" cy="3279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2183400" y="304920"/>
            <a:ext cx="48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двухсторон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9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Объект 4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29600" cy="44290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1953360" y="304920"/>
            <a:ext cx="54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трапецеидаль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3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Объект 4" descr=""/>
          <p:cNvPicPr/>
          <p:nvPr/>
        </p:nvPicPr>
        <p:blipFill>
          <a:blip r:embed="rId1"/>
          <a:stretch/>
        </p:blipFill>
        <p:spPr>
          <a:xfrm>
            <a:off x="1930320" y="1600200"/>
            <a:ext cx="5283360" cy="45306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2356560" y="228600"/>
            <a:ext cx="44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полу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32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Объект 4" descr=""/>
          <p:cNvPicPr/>
          <p:nvPr/>
        </p:nvPicPr>
        <p:blipFill>
          <a:blip r:embed="rId1"/>
          <a:stretch/>
        </p:blipFill>
        <p:spPr>
          <a:xfrm>
            <a:off x="923760" y="2494080"/>
            <a:ext cx="7296480" cy="27432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2386080" y="380880"/>
            <a:ext cx="46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ки для раска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Объект 4" descr=""/>
          <p:cNvPicPr/>
          <p:nvPr/>
        </p:nvPicPr>
        <p:blipFill>
          <a:blip r:embed="rId1"/>
          <a:stretch/>
        </p:blipFill>
        <p:spPr>
          <a:xfrm>
            <a:off x="457200" y="2014560"/>
            <a:ext cx="8229600" cy="37018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2572200" y="3808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роны для к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Объект 4" descr=""/>
          <p:cNvPicPr/>
          <p:nvPr/>
        </p:nvPicPr>
        <p:blipFill>
          <a:blip r:embed="rId1"/>
          <a:stretch/>
        </p:blipFill>
        <p:spPr>
          <a:xfrm>
            <a:off x="1465200" y="1600200"/>
            <a:ext cx="6213600" cy="45306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2536560" y="380880"/>
            <a:ext cx="431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и для раска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231200" y="2362320"/>
            <a:ext cx="61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ы 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841320" y="2311560"/>
            <a:ext cx="745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ки цельные, сменные надста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кладыши к бойка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50, Сталь 50Г, 40ХН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ХНВ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2422800" y="2433600"/>
            <a:ext cx="468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иты для осад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аные Ст 3, сталь 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тые сталь 35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87640" y="1679400"/>
            <a:ext cx="861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ной технологиче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ки, плиты для осадки, оправ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ки, кольца, раскатки, угол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, обжимки, топо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1875960" y="2133720"/>
            <a:ext cx="445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, просеч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5ХМ, 5ХНВ, 7Х3, 8Х3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ХГМ, 5ХН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830880" y="243828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ни сплошные и пустотелы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Х, 50Х, 5ХНВ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1847880" y="2449440"/>
            <a:ext cx="52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ставки к прошивня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40, сталь 50, 50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1136520" y="2387520"/>
            <a:ext cx="699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, раскатки, подклад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40, сталь 45, 40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1548000" y="2133720"/>
            <a:ext cx="57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жим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40, сталь 45, сталь 50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7, 40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559160" y="1371600"/>
            <a:ext cx="571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скатки и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, сталь 40, сталь 50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ХН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либрово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50, сталь 50Х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831320" y="1676520"/>
            <a:ext cx="499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ц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о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сад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, сталь 50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2155320" y="2197080"/>
            <a:ext cx="473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чки к топорам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му инструменту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 3, сталь 15, сталь 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1745640" y="2209680"/>
            <a:ext cx="57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ещ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15, сталь 20, сталь 25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2961360" y="2176560"/>
            <a:ext cx="285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рон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, Ст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ове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133280" y="2311560"/>
            <a:ext cx="695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Поддерживающий инструмен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ещи, стойки, патро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2133360" y="1905120"/>
            <a:ext cx="4848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и для раскат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ание и подстав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ладыш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ХН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655200" y="2133720"/>
            <a:ext cx="77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Мерительный инструмен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нциркули, угольники, нутромер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нейки, калибры, шабло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38960" y="2819520"/>
            <a:ext cx="615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 подразделяют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версальный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циализированны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Объект 4" descr=""/>
          <p:cNvPicPr/>
          <p:nvPr/>
        </p:nvPicPr>
        <p:blipFill>
          <a:blip r:embed="rId1"/>
          <a:stretch/>
        </p:blipFill>
        <p:spPr>
          <a:xfrm>
            <a:off x="1892160" y="1600200"/>
            <a:ext cx="535968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2605320" y="762120"/>
            <a:ext cx="42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ца оправо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Объект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070600" cy="4530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2381040" y="76212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ни кузне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Объект 4" descr=""/>
          <p:cNvPicPr/>
          <p:nvPr/>
        </p:nvPicPr>
        <p:blipFill>
          <a:blip r:embed="rId1"/>
          <a:stretch/>
        </p:blipFill>
        <p:spPr>
          <a:xfrm>
            <a:off x="2266920" y="1712880"/>
            <a:ext cx="4610160" cy="43052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2318040" y="380880"/>
            <a:ext cx="47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ни пустоте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15Z</dcterms:modified>
  <cp:revision>2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