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DB3-3F52-44EE-934D-9400C9E39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189E-3C3D-4028-8BAB-6D76614A91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2F36-1482-4DB4-AFD3-03C4A8BEC3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62E-4729-4B01-94F9-5F55DF58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775-A7C4-4F9D-8323-5FA4E3EB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651-64E0-4877-82F9-F863CAD0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6E2-DB5B-4FED-82CC-44824A4E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2EC4-6D5F-47CF-A18B-E7FD3DD2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BB76-182F-4C69-A639-7E4AB03B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6A1C-0B35-4B7E-BF8E-4DF8C52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9810-ADC3-4672-9A69-80B48119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89DE-8E40-459F-BACA-64EE68EF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C314-AADA-4413-AA58-E5C17B24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814B-6A8F-44DA-96C8-6906651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5DC-DF03-47B4-978C-3ADD71BB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A287-7358-4727-AA50-4122B46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6B0D-646E-41FD-B77B-78F8E5E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5F74-C8E7-4775-88BD-2E992923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0324-2004-4C0E-86FE-4B7C9ACC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6018-5654-4CEB-A4F5-1138C4C1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A50-EA71-4325-98A2-658E9A06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424-7109-4942-9E3E-0CEF3F70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399-C0D9-4533-ABC9-225EEB35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B3C-9B75-40CA-8410-70B92C60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D72-222B-4ECB-BED4-2D76574D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6BD-86AB-403A-9E52-EA2B3725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BFF-0C32-4570-8EAB-B627C4AB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65FC-9054-4ED0-9314-FC7C64B58BD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46D6-AD04-4F9B-82FF-1F7735D7522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277280" y="2133720"/>
            <a:ext cx="6592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Чистота обработки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деталей 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листово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805680" y="2222640"/>
            <a:ext cx="711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иды обработ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 чистота поверхност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2682720" y="428760"/>
            <a:ext cx="30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 до 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2518200" y="2743200"/>
            <a:ext cx="347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нке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н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2347920" y="1371600"/>
            <a:ext cx="353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рты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3,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1,6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0,8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0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485440" y="1143000"/>
            <a:ext cx="3620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н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100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3,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280600" y="1371600"/>
            <a:ext cx="376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г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арите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2531880" y="1600200"/>
            <a:ext cx="376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езе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арите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20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z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,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2585160" y="1447920"/>
            <a:ext cx="376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ф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арите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2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997280" y="2514600"/>
            <a:ext cx="457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фование-отдел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1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2443320" y="1371600"/>
            <a:ext cx="3768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тир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б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8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ня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2459880" y="1905120"/>
            <a:ext cx="376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нинг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рка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92120" y="1600200"/>
            <a:ext cx="815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не требу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 обрабо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ровальные отверстия плит штампов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80 до 4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400120" y="2401920"/>
            <a:ext cx="35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б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,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731160" y="1676520"/>
            <a:ext cx="749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деталей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прикасающиеся с друг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ями, а также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верления или зенкерова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40 до 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905040" y="1600200"/>
            <a:ext cx="746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ные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особых требова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ыступающая часть хвостовик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ные поверхности винтов и т.п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20 до 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10720" y="1600200"/>
            <a:ext cx="7425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ные поверхности плит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й точности, держате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ов и матриц, отверстия п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зку, соединение профиль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ов с пуансонодержателя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2,5 до 1,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04080" y="1600200"/>
            <a:ext cx="8107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отверстий для посад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2-му классу точности, прилега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деталей пакет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новочные штифты, упор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рессовываемая ча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 и втулок и т.п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1,25 до 0,6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665640" y="1600200"/>
            <a:ext cx="755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ая часть направля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нок и втулок, изготовляемых п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-му классу точност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ая поверхность большин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бных и гибочных штамп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вытяжных пуансон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0,63 до 0,3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376200" y="762120"/>
            <a:ext cx="7718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ая поверхность вытяж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 и складкодержателей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жущие поверхности выруб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х штампов, рабоч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штампов для холод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давливания, направляющ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ь колонок и отверс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втулок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тавливаемых по 1-м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ссу точнос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0,16 до 0,0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736920" y="1066680"/>
            <a:ext cx="7747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ая поверхность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х штампов, в част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шариковым направление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ие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ообразующих штампов п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ышенных требованиях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0,08 до 0,0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39Z</dcterms:modified>
  <cp:revision>2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