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D211-0209-4D12-B625-9C9ED027D1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72C2-5EA0-4FC2-B157-DF0964E08C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1A48-69A4-405F-A095-BD6EC893CA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93E9-9C31-4426-8B11-05D59882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4E73-39E7-46DF-8907-B3D453C4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9DDB-0FC0-4F74-A632-5460D018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E49E-5F6D-4816-A584-52DC1FDD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AA77-C779-48A2-B859-A38683A4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9FF1-13CA-469C-BCAF-1466FF35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3EA4-C47E-4667-A253-5E88A30A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31F0-7259-4287-B485-B0AF5D42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B01C-82C1-4525-922C-89BF48F5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E422-45E6-4935-AD2F-235B4B09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2A77-FD02-4F4C-BDF5-EE404EBC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96E8-2FBB-432D-8A50-6AAEE7F3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32AF-13C1-4AE3-84B9-C09CFF0E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4F6B-B368-4BF6-8369-1D3E7948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EFF7-D252-4510-815F-F11BDC8C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C35D-9650-4A49-A518-81690F83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AEDC-073B-4237-A8BE-65C3E6A2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BAB9-02DF-4A94-9778-CB2E6F45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4549-8088-46EB-8E65-23EE0A35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6D3C-E43E-477A-84A6-67C9D3E2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1A94-1FB3-47D8-8300-7D2B24B6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0D87-77C2-4C17-B378-6D34E48F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D5BD-C2FA-49A4-BCFF-F1081283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9E19-30F5-4EC5-B96D-D1382E02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07A2-09DE-473B-AEB6-F6714424A52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59DA-F0BE-45F0-AC42-27B62FB6DFA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2861280" y="1371600"/>
            <a:ext cx="3518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Основны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тип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съемников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1" name="Объект 3" descr=""/>
          <p:cNvPicPr/>
          <p:nvPr/>
        </p:nvPicPr>
        <p:blipFill>
          <a:blip r:embed="rId1"/>
          <a:stretch/>
        </p:blipFill>
        <p:spPr>
          <a:xfrm>
            <a:off x="1676520" y="380880"/>
            <a:ext cx="6095880" cy="3714840"/>
          </a:xfrm>
          <a:prstGeom prst="rect">
            <a:avLst/>
          </a:prstGeom>
          <a:ln w="0">
            <a:noFill/>
          </a:ln>
        </p:spPr>
      </p:pic>
      <p:sp>
        <p:nvSpPr>
          <p:cNvPr id="192" name="TextBox 4"/>
          <p:cNvSpPr/>
          <p:nvPr/>
        </p:nvSpPr>
        <p:spPr>
          <a:xfrm>
            <a:off x="1434600" y="4660920"/>
            <a:ext cx="67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жный резиновый верхн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78720" y="1523880"/>
            <a:ext cx="8422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ийном производств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обивных, главным образом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пуансонных или в открыт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рубных штамп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крупных детале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вается на пуансон или штиф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держивается сжатием резин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щитные шайбы привулканизирован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меры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5 до 30 мм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20 до 6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7" name="Объект 3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743720" cy="45309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2179080" y="5211720"/>
            <a:ext cx="477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жный буфер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723960" y="1295280"/>
            <a:ext cx="7066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штампах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правляющими колонками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абженными нижним буфером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в штампах, устанавливаемых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рессах с пневматически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ферными устройств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хнологическое примен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алогично пружинном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жнему съемник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3" name="Объект 3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353200" cy="4530960"/>
          </a:xfrm>
          <a:prstGeom prst="rect">
            <a:avLst/>
          </a:prstGeom>
          <a:ln w="0">
            <a:noFill/>
          </a:ln>
        </p:spPr>
      </p:pic>
      <p:sp>
        <p:nvSpPr>
          <p:cNvPr id="204" name="TextBox 4"/>
          <p:cNvSpPr/>
          <p:nvPr/>
        </p:nvSpPr>
        <p:spPr>
          <a:xfrm>
            <a:off x="2056680" y="5207040"/>
            <a:ext cx="52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жной отжимаем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864360" y="1600200"/>
            <a:ext cx="7413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штампах для пробивки отверст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лых деталях, а также в штамп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холодного выдавливания п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тному метод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начение – применить боле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откие пуансоны и увеличи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чую высоту для свободног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аления детале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9" name="Объект 3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4071960" cy="45309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4"/>
          <p:cNvSpPr/>
          <p:nvPr/>
        </p:nvSpPr>
        <p:spPr>
          <a:xfrm>
            <a:off x="1708920" y="5181480"/>
            <a:ext cx="56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жной направляем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26600" y="380880"/>
            <a:ext cx="8049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ит съемником матери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правляющей плит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уансон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няется в штампах 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тандартными длинными и тонки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ансонами, например при пробивк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ий в высоких вытянут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алях, когда по конструктивны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ображениям применить пуансон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рубках не представляетс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можны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Объект 3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962680" cy="4390920"/>
          </a:xfrm>
          <a:prstGeom prst="rect">
            <a:avLst/>
          </a:prstGeom>
          <a:ln w="0">
            <a:noFill/>
          </a:ln>
        </p:spPr>
      </p:pic>
      <p:sp>
        <p:nvSpPr>
          <p:cNvPr id="216" name="TextBox 4"/>
          <p:cNvSpPr/>
          <p:nvPr/>
        </p:nvSpPr>
        <p:spPr>
          <a:xfrm>
            <a:off x="1824840" y="517356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сасывающего действ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923040" y="1676520"/>
            <a:ext cx="7194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одъема и удержа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есу крупной детал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сбрасыванием ее 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жное удаляющее устройств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7" name="Объект 3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106960" cy="45309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2100600" y="5176800"/>
            <a:ext cx="510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сткий (неподвижный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Объект 3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857920" cy="37908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4"/>
          <p:cNvSpPr/>
          <p:nvPr/>
        </p:nvSpPr>
        <p:spPr>
          <a:xfrm>
            <a:off x="938880" y="4673520"/>
            <a:ext cx="747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кционно-кольцевой пружинящ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тяжных штамп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работе на прова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еталей диаметр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100 м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Объект 3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810120" cy="2867040"/>
          </a:xfrm>
          <a:prstGeom prst="rect">
            <a:avLst/>
          </a:prstGeom>
          <a:ln w="0">
            <a:noFill/>
          </a:ln>
        </p:spPr>
      </p:pic>
      <p:sp>
        <p:nvSpPr>
          <p:cNvPr id="227" name="TextBox 4"/>
          <p:cNvSpPr/>
          <p:nvPr/>
        </p:nvSpPr>
        <p:spPr>
          <a:xfrm>
            <a:off x="783720" y="3809880"/>
            <a:ext cx="75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ально-крючковый пружинящ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774720" y="1752480"/>
            <a:ext cx="7229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тяжных штамп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работе на провал д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алей диаметром свыше 10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есто потайных цилиндрически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ужин иногда применяю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ские наруж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Объект 3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5953320" cy="36194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4"/>
          <p:cNvSpPr/>
          <p:nvPr/>
        </p:nvSpPr>
        <p:spPr>
          <a:xfrm>
            <a:off x="470160" y="4191120"/>
            <a:ext cx="807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ально-крючков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оустанавливающийся (плавающий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526040" y="2209680"/>
            <a:ext cx="5684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тяжных штамп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изготовлении круп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инных гиль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Объект 3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477120" cy="39052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2152080" y="4648320"/>
            <a:ext cx="48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ально-планоч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1179000" y="1828800"/>
            <a:ext cx="663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тяжных и протяж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тампов при работе на прова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ъемные план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оротно-наклоняемого тип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Спасиб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з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854280" y="2286000"/>
            <a:ext cx="7316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елкосерийном производств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грубой вырубки из матери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щиной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3мм или при пробивк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ий в крупных деталя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зопасен в работ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Объект 3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181840" cy="42480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2100600" y="5105520"/>
            <a:ext cx="510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сткий (неподвижный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рыт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894600" y="1752480"/>
            <a:ext cx="7461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штамп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правляющими колонка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няется как съемник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акетных штампах-одновременн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аправляющая пли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уансон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опасен в работ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Объект 3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5141880" cy="45306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5"/>
          <p:cNvSpPr/>
          <p:nvPr/>
        </p:nvSpPr>
        <p:spPr>
          <a:xfrm>
            <a:off x="1445040" y="5072040"/>
            <a:ext cx="682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жной пружинный верхн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1202040" y="1600200"/>
            <a:ext cx="6690600" cy="40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штамп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правляющими колонкам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вырубке крупных дета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онкого материал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мбинирован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мещенных штампа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зопасен в работ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Объект 3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6010560" cy="42195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1653120" y="4876920"/>
            <a:ext cx="587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жной пружинный ил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зиновый нижн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749880" y="609480"/>
            <a:ext cx="7626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штамп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правляющими колонкам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buClr>
                <a:srgbClr val="ffff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вырубке из тонкого матери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до 0,2 мм)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) при вырубке крупных детале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) при комбинированной вырубке 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ивке как крупных, так и мелки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алей в совмещенных штампа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есто пружин можно применя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зиновые буфер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унин</dc:creator>
  <dc:description/>
  <dc:language>en-US</dc:language>
  <cp:lastModifiedBy>TFiHOM</cp:lastModifiedBy>
  <dcterms:modified xsi:type="dcterms:W3CDTF">2022-10-19T09:11:32Z</dcterms:modified>
  <cp:revision>2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