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5984-8A82-476F-8B6C-8CE56AC561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7300-EBAF-488A-A927-A6E9490099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2E58-AFEC-44A6-BA11-BEB896084B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1FE9-58A9-46C7-AB71-0BCB3E74D0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F994-6648-4857-B1D4-0E376BE854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AA99-C0C0-45D6-BF80-87F8568F86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B3ED-22F9-4BD5-B9CD-EFA6DBF4FD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E494-1992-4D5B-8095-8F6BF1045A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7A9F-A5CB-4881-8768-C183935730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3A17-E8CB-405B-9B48-28C075FF24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82B1-1B2F-46AB-A871-9C409CB464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8265-372A-4C5A-BB18-8CF14581E2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3D70-AE5B-429E-959F-13F6D5230B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4805-DBCF-42C9-A3E9-DD664ED8DE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1850-997B-4B14-8661-B39E333C6F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51AB-BC07-40B0-BE07-2E30407D40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C308-E8FB-484D-95EC-B1326B8731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AD2E-764E-45E8-B55D-B90A383B6A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6406-5B72-4E3E-9C82-70D54F34FC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1643-0543-42C8-9DCB-9BAFA7EC45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4AAB-85CA-4CC6-A034-33D82D1EE7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088B-B447-4E44-A75D-3005DE959F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E159-2162-4A35-A610-AC1DE13882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850E-BD0D-4DE5-B60F-E5936AC698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796A-7252-4611-A25A-8D163E855D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96CE-E070-4C19-8151-79FDC5B419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3F7B-6DDF-487F-AB76-CC3D4BAE02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50C9-C836-4377-862F-A4D7E538CA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D18E-34C1-4110-8334-A48436D572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FDA2-6AB4-4FF5-A099-65D2345BE8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9734-2AD9-473B-88C6-002B6043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BBB3-FF27-4A68-A072-D3C45443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D9D-0A7B-43D7-A30A-B0407F93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672-08C9-4017-BD6C-B3939CA4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95E2-0B03-4926-B816-3FFC61E7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9E97-F080-4BC2-B262-691E8D4E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CA22-4FD4-4273-9746-0E05E273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F0A7-F9CA-4BB1-8FCB-CD5F1C58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0597-EE14-471B-9272-E6D3BC6F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9A85-A3BD-4ADE-AE24-4ED6144D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3F02-694A-4AF1-A895-55BEB314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E30-421A-4D73-B420-077B5116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5542-5140-401A-8D75-5CE09CEE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B9BF-0343-409B-89B9-1C4A02F4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BF51-102E-4DD0-980E-DACC07DB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A068-15F0-4064-A2E9-E3D157AB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0174-9D0A-401C-9558-E30B9EA9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AB57-B733-49DE-BCD7-D275FA8C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8BDF-FD7C-45BA-B91F-8FD0666D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4F6-8271-49E3-B2B0-2661C943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4A8-4CBC-427D-AA30-B249A9FA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E11-0D9C-40C7-AD73-7A76603A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914C-710B-4D67-B9C9-45ACA854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B09-61FD-4289-8505-79895F90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5BCE-42AC-4B3D-9668-BAD2706A45B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5B37-A69E-44C4-AED2-BF6499E5B01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714680" y="2209680"/>
            <a:ext cx="545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пы стандартных 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рмализованных блок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х примен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228600" y="12952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320" y="-360"/>
            <a:ext cx="9524880" cy="70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Рисунок 1" descr=""/>
          <p:cNvPicPr/>
          <p:nvPr/>
        </p:nvPicPr>
        <p:blipFill>
          <a:blip r:embed="rId1"/>
          <a:stretch/>
        </p:blipFill>
        <p:spPr>
          <a:xfrm>
            <a:off x="979560" y="304920"/>
            <a:ext cx="7210440" cy="44672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2"/>
          <p:cNvSpPr/>
          <p:nvPr/>
        </p:nvSpPr>
        <p:spPr>
          <a:xfrm>
            <a:off x="1018080" y="4952880"/>
            <a:ext cx="713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лые с осевым расположе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х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200÷1200 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474120" y="2209680"/>
            <a:ext cx="768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штамповки кругл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ышенной точности из штуч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полосовых заготов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мпаундные штампы 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лектромашиностроени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Рисунок 1" descr=""/>
          <p:cNvPicPr/>
          <p:nvPr/>
        </p:nvPicPr>
        <p:blipFill>
          <a:blip r:embed="rId1"/>
          <a:stretch/>
        </p:blipFill>
        <p:spPr>
          <a:xfrm>
            <a:off x="399960" y="0"/>
            <a:ext cx="8344080" cy="4981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"/>
          <p:cNvSpPr/>
          <p:nvPr/>
        </p:nvSpPr>
        <p:spPr>
          <a:xfrm>
            <a:off x="304200" y="5105520"/>
            <a:ext cx="853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цизионные с осевым расположе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х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60÷180 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298440" y="2057400"/>
            <a:ext cx="8259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штамповки мелких точ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ей преимущественно в часов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иоэлектронной промышлен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ются блоки без направляющ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улок, с втулками, с шариковы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Рисунок 1" descr=""/>
          <p:cNvPicPr/>
          <p:nvPr/>
        </p:nvPicPr>
        <p:blipFill>
          <a:blip r:embed="rId1"/>
          <a:stretch/>
        </p:blipFill>
        <p:spPr>
          <a:xfrm>
            <a:off x="2013120" y="-76320"/>
            <a:ext cx="5105160" cy="54594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674640" y="5407200"/>
            <a:ext cx="803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цизионные с подвижной направляющ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литой, диагональным и угловы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положением направляющих колоно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1685880" y="76320"/>
            <a:ext cx="4943520" cy="515592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"/>
          <p:cNvSpPr/>
          <p:nvPr/>
        </p:nvSpPr>
        <p:spPr>
          <a:xfrm>
            <a:off x="390240" y="5278320"/>
            <a:ext cx="8396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Прецизионные с общим направлением верхней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и подвижной направляющей плиты, с угловым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расположением четырех направляющих колонок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529920" y="2176560"/>
            <a:ext cx="8128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следовательной штамп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чных деталей из тонкого материала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имущественно при штамповк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рессах-автомат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1208520" y="2819520"/>
            <a:ext cx="645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кеты вытяжных штамп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ессов простого действ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928800" y="0"/>
            <a:ext cx="7286400" cy="53341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2897640" y="5638680"/>
            <a:ext cx="30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л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677160" y="2325600"/>
            <a:ext cx="711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ервой вытяжки без прижи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на провал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Рисунок 1" descr=""/>
          <p:cNvPicPr/>
          <p:nvPr/>
        </p:nvPicPr>
        <p:blipFill>
          <a:blip r:embed="rId1"/>
          <a:stretch/>
        </p:blipFill>
        <p:spPr>
          <a:xfrm>
            <a:off x="495360" y="-228600"/>
            <a:ext cx="8010360" cy="54100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"/>
          <p:cNvSpPr/>
          <p:nvPr/>
        </p:nvSpPr>
        <p:spPr>
          <a:xfrm>
            <a:off x="1648800" y="5222880"/>
            <a:ext cx="538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задним расположе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х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=60÷500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Рисунок 1" descr=""/>
          <p:cNvPicPr/>
          <p:nvPr/>
        </p:nvPicPr>
        <p:blipFill>
          <a:blip r:embed="rId1"/>
          <a:stretch/>
        </p:blipFill>
        <p:spPr>
          <a:xfrm>
            <a:off x="1314360" y="76320"/>
            <a:ext cx="6534360" cy="51339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"/>
          <p:cNvSpPr/>
          <p:nvPr/>
        </p:nvSpPr>
        <p:spPr>
          <a:xfrm>
            <a:off x="3067920" y="5638680"/>
            <a:ext cx="31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л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1784880" y="2666880"/>
            <a:ext cx="572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торой и последующ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ераций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рижи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на провал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Рисунок 1" descr=""/>
          <p:cNvPicPr/>
          <p:nvPr/>
        </p:nvPicPr>
        <p:blipFill>
          <a:blip r:embed="rId1"/>
          <a:stretch/>
        </p:blipFill>
        <p:spPr>
          <a:xfrm>
            <a:off x="1905120" y="0"/>
            <a:ext cx="5676840" cy="6039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3237480" y="6172200"/>
            <a:ext cx="32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л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2124720" y="2568600"/>
            <a:ext cx="436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ервой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рижим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ской загот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Рисунок 1" descr=""/>
          <p:cNvPicPr/>
          <p:nvPr/>
        </p:nvPicPr>
        <p:blipFill>
          <a:blip r:embed="rId1"/>
          <a:stretch/>
        </p:blipFill>
        <p:spPr>
          <a:xfrm>
            <a:off x="1828800" y="0"/>
            <a:ext cx="5676840" cy="60102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3"/>
          <p:cNvSpPr/>
          <p:nvPr/>
        </p:nvSpPr>
        <p:spPr>
          <a:xfrm>
            <a:off x="3144600" y="6095880"/>
            <a:ext cx="32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л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1708560" y="2895480"/>
            <a:ext cx="57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торой и последующ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ераций вытяжк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рижим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2" name="Рисунок 2" descr=""/>
          <p:cNvPicPr/>
          <p:nvPr/>
        </p:nvPicPr>
        <p:blipFill>
          <a:blip r:embed="rId1"/>
          <a:stretch/>
        </p:blipFill>
        <p:spPr>
          <a:xfrm>
            <a:off x="1371600" y="27000"/>
            <a:ext cx="6105600" cy="56484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3"/>
          <p:cNvSpPr/>
          <p:nvPr/>
        </p:nvSpPr>
        <p:spPr>
          <a:xfrm>
            <a:off x="2863440" y="5867280"/>
            <a:ext cx="312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л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Box 1"/>
          <p:cNvSpPr/>
          <p:nvPr/>
        </p:nvSpPr>
        <p:spPr>
          <a:xfrm>
            <a:off x="1740960" y="2685960"/>
            <a:ext cx="567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овмещенной вырез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тяжки на пресс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ого действ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9" name="Рисунок 1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486480" cy="43149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2"/>
          <p:cNvSpPr/>
          <p:nvPr/>
        </p:nvSpPr>
        <p:spPr>
          <a:xfrm>
            <a:off x="2037600" y="4749840"/>
            <a:ext cx="483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угольн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1708560" y="2666880"/>
            <a:ext cx="572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торой и последующ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ераций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бчат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рижи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на провал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376200" y="1981080"/>
            <a:ext cx="8553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бычной штамповки детале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ней сложности и  точнос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полосовых и штучных заготов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вырубные, пробивные, гибочные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тяжные и комбинированные штампы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Объект 3" descr=""/>
          <p:cNvPicPr/>
          <p:nvPr/>
        </p:nvPicPr>
        <p:blipFill>
          <a:blip r:embed="rId1"/>
          <a:stretch/>
        </p:blipFill>
        <p:spPr>
          <a:xfrm>
            <a:off x="1828800" y="36360"/>
            <a:ext cx="5294160" cy="45309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2084040" y="4800600"/>
            <a:ext cx="49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угольн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2201040" y="2514600"/>
            <a:ext cx="4365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ервой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бчат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рижим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ской загот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Объект 3" descr=""/>
          <p:cNvPicPr/>
          <p:nvPr/>
        </p:nvPicPr>
        <p:blipFill>
          <a:blip r:embed="rId1"/>
          <a:stretch/>
        </p:blipFill>
        <p:spPr>
          <a:xfrm>
            <a:off x="2057400" y="34920"/>
            <a:ext cx="5022720" cy="45306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4"/>
          <p:cNvSpPr/>
          <p:nvPr/>
        </p:nvSpPr>
        <p:spPr>
          <a:xfrm>
            <a:off x="2101320" y="4876920"/>
            <a:ext cx="51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угольн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1632600" y="2514600"/>
            <a:ext cx="572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торой и последующ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ераций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бчат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рижим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876240" y="76320"/>
            <a:ext cx="7391520" cy="4572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916920" y="4800600"/>
            <a:ext cx="688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иагональным расположе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х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60÷500 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334440" y="2133720"/>
            <a:ext cx="8538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штамповки более точ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ей при работе из полос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ыстроходных пресс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вырубные и последовательные штампы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550800" y="152280"/>
            <a:ext cx="7991640" cy="4305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"/>
          <p:cNvSpPr/>
          <p:nvPr/>
        </p:nvSpPr>
        <p:spPr>
          <a:xfrm>
            <a:off x="369720" y="4648320"/>
            <a:ext cx="8404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севым (симметричным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положением направляющих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60÷500 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345960" y="1338120"/>
            <a:ext cx="84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штамповки мелких точн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ным образом из штучных заготов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робивные, гибочные, зачистные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тяжные и комбинированные штампы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Рисунок 1" descr=""/>
          <p:cNvPicPr/>
          <p:nvPr/>
        </p:nvPicPr>
        <p:blipFill>
          <a:blip r:embed="rId1"/>
          <a:stretch/>
        </p:blipFill>
        <p:spPr>
          <a:xfrm>
            <a:off x="609480" y="25560"/>
            <a:ext cx="8001000" cy="47908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"/>
          <p:cNvSpPr/>
          <p:nvPr/>
        </p:nvSpPr>
        <p:spPr>
          <a:xfrm>
            <a:off x="1148400" y="4952880"/>
            <a:ext cx="68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гловым расположе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тырех направляющих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535680" y="2054160"/>
            <a:ext cx="779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штамповки крупн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больших штучных заготовок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кже для многопозицион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овательных штамп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1:25Z</dcterms:modified>
  <cp:revision>1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