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9B55-807B-4462-9F67-432721C6E1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A645-2DA4-4922-A27F-99787541E4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A1B4-6438-4B53-86E2-C259A1610A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C23-666B-47F9-ABFC-6B576888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751-B265-4D1A-8531-B1E9A07F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E33-B470-4A9D-83BD-69F40CEE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BD0-0FBA-49EF-828B-B617D184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233D-A632-451C-8567-AF8F4F61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1DBC-3808-4A79-9437-CA1DD6C4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71EC-784A-4614-BE8E-ABED085D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0EE7-C79D-498B-BD56-14030C7E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9439-C6E8-4B33-B326-DCF33C8F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797B-8544-49AB-B473-C37C4E51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8CF8-97D4-4851-AB8F-9996C04C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812-7D4D-4D0A-99C8-A1835060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7F24-F626-42AB-9694-4F228D47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BED6-D011-4843-A220-56AD0EE3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BFDD-1C8E-4CBF-BABF-7D5953DB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0FD3-9706-44A0-B6E3-DB3A53AC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BE7C-5C11-49D3-8F38-A816E7EE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6F3-A18E-4223-AF59-359E6284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423-FFC8-4E86-825C-8DA87CB4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D77-28DF-43F9-8917-59032FFC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BCF-E997-478E-96FB-F96D21A5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821-6A58-4C03-805D-CA3AB856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1A6B-7584-4E64-AE1F-F47E1A47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0E5-7B72-47D3-BA49-E3CAD8EB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5378-8CEC-4F75-855B-53D68C02A3E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AC54-9DF9-4BEE-9004-38E730ED57A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705600" y="2133720"/>
            <a:ext cx="773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Классификация 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для горячей штампов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Объект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576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610160" cy="45309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3"/>
          <p:cNvSpPr/>
          <p:nvPr/>
        </p:nvSpPr>
        <p:spPr>
          <a:xfrm>
            <a:off x="391680" y="457200"/>
            <a:ext cx="820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ыт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же, но для случаев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это обусловлено формой пок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1297440" y="1219320"/>
            <a:ext cx="6630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епленные штамп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овка на штампово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отах поковок всех фор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ласно классификац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словиях массового 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пносерийного производст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Объект 4" descr=""/>
          <p:cNvPicPr/>
          <p:nvPr/>
        </p:nvPicPr>
        <p:blipFill>
          <a:blip r:embed="rId1"/>
          <a:stretch/>
        </p:blipFill>
        <p:spPr>
          <a:xfrm>
            <a:off x="2916360" y="1600200"/>
            <a:ext cx="3311280" cy="45306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3103920" y="45720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ручье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Объект 4" descr=""/>
          <p:cNvPicPr/>
          <p:nvPr/>
        </p:nvPicPr>
        <p:blipFill>
          <a:blip r:embed="rId1"/>
          <a:stretch/>
        </p:blipFill>
        <p:spPr>
          <a:xfrm>
            <a:off x="1959120" y="1600200"/>
            <a:ext cx="5225760" cy="45306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3"/>
          <p:cNvSpPr/>
          <p:nvPr/>
        </p:nvSpPr>
        <p:spPr>
          <a:xfrm>
            <a:off x="2785680" y="304920"/>
            <a:ext cx="34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ручье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401120" y="685800"/>
            <a:ext cx="6320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ыт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овка на штампово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отах поковок ти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л вращения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пп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поковок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групп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тикальными стенк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их периметру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словиях крупносерийно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ассового производст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Объект 4" descr=""/>
          <p:cNvPicPr/>
          <p:nvPr/>
        </p:nvPicPr>
        <p:blipFill>
          <a:blip r:embed="rId1"/>
          <a:stretch/>
        </p:blipFill>
        <p:spPr>
          <a:xfrm>
            <a:off x="2835360" y="1600200"/>
            <a:ext cx="3473280" cy="45306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"/>
          <p:cNvSpPr/>
          <p:nvPr/>
        </p:nvSpPr>
        <p:spPr>
          <a:xfrm>
            <a:off x="3027600" y="38088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ручье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Объект 4" descr=""/>
          <p:cNvPicPr/>
          <p:nvPr/>
        </p:nvPicPr>
        <p:blipFill>
          <a:blip r:embed="rId1"/>
          <a:stretch/>
        </p:blipFill>
        <p:spPr>
          <a:xfrm>
            <a:off x="3498840" y="1600200"/>
            <a:ext cx="2146320" cy="4530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3"/>
          <p:cNvSpPr/>
          <p:nvPr/>
        </p:nvSpPr>
        <p:spPr>
          <a:xfrm>
            <a:off x="2682360" y="380880"/>
            <a:ext cx="34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ручье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8096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1328400" y="2514600"/>
            <a:ext cx="653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крепленные (подкладные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428760" y="380880"/>
            <a:ext cx="8192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овка на ковочных молот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словиях средне- ил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лкосерийного производства поков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носительно простой формы в одн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ом ручье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ее сложной формы к примен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ваной заготовки или заготовк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отовленной в заготовительн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кладном штамп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46Z</dcterms:modified>
  <cp:revision>2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