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A6D8-37FB-4811-A4CA-551F0DE58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5EF6-E732-48F8-9089-491B2EF1A6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E091-B6E5-4F49-8628-AE499CF4FC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CAA8-F881-4058-9DAF-1AAACA10B0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A06B-6CCD-48E6-B2C2-2413824999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4298-3077-438D-AB4A-B272DF9B60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2A8C-E045-4714-808E-F38C59C6ED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EC68-39E4-4FFA-944B-99CF16D812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BB65-65A3-485B-85A3-B157E95ABA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EB66-9E86-40CB-8125-CFE6964279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3C56-8BB3-41D9-A619-D983C762B0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17C6-B19E-41D8-AE56-6FC03F2600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0368-179E-4002-9E6F-8CD5845F4F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1149-73B0-4A51-A398-1F282A5EAB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0D18-0300-4255-8518-CDF814C77E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A176-C6EA-46CC-913C-D193C3C454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BAC9-BBA8-4875-AC73-4B16DEC185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9B46-670D-4915-87B6-9D18218005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4C9E-CF53-49A7-8E02-EDF550CEB4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57C0-7986-4617-B993-C189134E53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3E7F-58E0-43A0-B0B9-5E78E89CC8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15D2-96CB-4000-A59E-131D88E2B1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B590-AD26-43D3-A0FC-20717AAA2F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3AC5-604F-4CC7-9ED0-D4295D4691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AA60-B1F9-4258-8224-6ACEC8A247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009F-4B10-41A0-B33C-B335F207F9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20C2-D911-40DD-92A9-14B5E6CAE9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2294-7723-45DC-9365-CF28260626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3802-39EF-4851-9CD4-2AB496289E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DA6B-8843-4EC4-BA81-38E170138F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EF1-3950-4CEB-9AB5-8E9C9B3C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EAD-8CD1-4862-A54C-015AD17B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B7E-C419-4377-9C8F-09D58B9C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271-A88F-4B0F-AF51-0B9F0B92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8025-8000-4F6B-A949-200BB1E4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9927-CC60-4836-A301-176EE3B2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A4AB-82C5-4F24-AD41-8BEC7BB2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AF95-6A4F-4ABE-B5BE-FC035625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E111-EDD7-4563-A3A4-EAFA57AE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4BBE-E41E-4E03-9DF4-1332175B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8A38-7F2D-4E26-8CCE-073935EE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B47-19FB-4997-A876-33684274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FB66-95EC-44B8-BF49-D95C7099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8BC2-D22F-42B9-9C6F-171EE594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A6F0-EF6E-4BA7-AE4D-9B1D096C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6A99-9123-44C0-81BE-71C9C197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1E47-827C-42B4-B69D-6C8BED14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8C8-7E2E-44DC-861D-770361D3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F23-F12C-4E61-8ED5-3811E8D1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F0A-EAA6-4893-BFC4-090A844B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DCA-AF6C-4289-AAE2-99E11556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CCC-204A-4582-977B-461892A1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CBE-6AD8-46AC-B8FC-3A97F8CC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594-26EF-4952-8657-AEDFD111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6415-965A-415D-9DAE-2874246BB53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6C63-EC12-4C71-AA82-459234CB2F1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683000" y="1371600"/>
            <a:ext cx="587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Основные тип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совмещенны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омбинированны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Рисунок 1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51051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2088000" y="5562720"/>
            <a:ext cx="53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ки и форм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Рисунок 1" descr=""/>
          <p:cNvPicPr/>
          <p:nvPr/>
        </p:nvPicPr>
        <p:blipFill>
          <a:blip r:embed="rId1"/>
          <a:stretch/>
        </p:blipFill>
        <p:spPr>
          <a:xfrm>
            <a:off x="25560" y="304920"/>
            <a:ext cx="9144000" cy="42876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2152440" y="4863960"/>
            <a:ext cx="52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брезки и форм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Рисунок 1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1157040" y="5638680"/>
            <a:ext cx="70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вытяжки и проби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Рисунок 1" descr=""/>
          <p:cNvPicPr/>
          <p:nvPr/>
        </p:nvPicPr>
        <p:blipFill>
          <a:blip r:embed="rId1"/>
          <a:stretch/>
        </p:blipFill>
        <p:spPr>
          <a:xfrm>
            <a:off x="19080" y="4680"/>
            <a:ext cx="9144000" cy="55310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2"/>
          <p:cNvSpPr/>
          <p:nvPr/>
        </p:nvSpPr>
        <p:spPr>
          <a:xfrm>
            <a:off x="1242000" y="577044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вытяжки и форм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31680" y="0"/>
            <a:ext cx="9144000" cy="61578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1468440" y="6157800"/>
            <a:ext cx="673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вытяжки и об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Рисунок 1" descr=""/>
          <p:cNvPicPr/>
          <p:nvPr/>
        </p:nvPicPr>
        <p:blipFill>
          <a:blip r:embed="rId1"/>
          <a:stretch/>
        </p:blipFill>
        <p:spPr>
          <a:xfrm>
            <a:off x="685800" y="76320"/>
            <a:ext cx="7343640" cy="51242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607680" y="5392800"/>
            <a:ext cx="733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четырех и более совмещен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рац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3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533520" y="3240"/>
            <a:ext cx="7934040" cy="62769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811440" y="6184800"/>
            <a:ext cx="742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и двукратно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Box 1"/>
          <p:cNvSpPr/>
          <p:nvPr/>
        </p:nvSpPr>
        <p:spPr>
          <a:xfrm>
            <a:off x="1748880" y="1905120"/>
            <a:ext cx="587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Основные тип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оследовательны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омбинированны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1447920" y="15840"/>
            <a:ext cx="5905440" cy="482904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1801080" y="5105520"/>
            <a:ext cx="51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Рисунок 1" descr=""/>
          <p:cNvPicPr/>
          <p:nvPr/>
        </p:nvPicPr>
        <p:blipFill>
          <a:blip r:embed="rId1"/>
          <a:stretch/>
        </p:blipFill>
        <p:spPr>
          <a:xfrm>
            <a:off x="905040" y="152280"/>
            <a:ext cx="7257960" cy="50389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2000520" y="5316480"/>
            <a:ext cx="50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и от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49636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2748600" y="5867280"/>
            <a:ext cx="519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и проби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7858080" cy="44769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569600" y="5181480"/>
            <a:ext cx="530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и раз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фигурной отрезк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8267760" cy="40478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1077840" y="4572000"/>
            <a:ext cx="69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чеканки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483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"/>
          <p:cNvSpPr/>
          <p:nvPr/>
        </p:nvSpPr>
        <p:spPr>
          <a:xfrm>
            <a:off x="1338120" y="5557680"/>
            <a:ext cx="646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, надрезки, ги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Рисунок 1" descr=""/>
          <p:cNvPicPr/>
          <p:nvPr/>
        </p:nvPicPr>
        <p:blipFill>
          <a:blip r:embed="rId1"/>
          <a:stretch/>
        </p:blipFill>
        <p:spPr>
          <a:xfrm>
            <a:off x="461880" y="76320"/>
            <a:ext cx="8220240" cy="59054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496440" y="5987880"/>
            <a:ext cx="83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брезки, пробивки, гибки и от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Рисунок 1" descr=""/>
          <p:cNvPicPr/>
          <p:nvPr/>
        </p:nvPicPr>
        <p:blipFill>
          <a:blip r:embed="rId1"/>
          <a:stretch/>
        </p:blipFill>
        <p:spPr>
          <a:xfrm>
            <a:off x="-34920" y="33480"/>
            <a:ext cx="9144000" cy="50022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"/>
          <p:cNvSpPr/>
          <p:nvPr/>
        </p:nvSpPr>
        <p:spPr>
          <a:xfrm>
            <a:off x="2060640" y="5175360"/>
            <a:ext cx="456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ибки, отрезки 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нчательной ги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Рисунок 1" descr=""/>
          <p:cNvPicPr/>
          <p:nvPr/>
        </p:nvPicPr>
        <p:blipFill>
          <a:blip r:embed="rId1"/>
          <a:stretch/>
        </p:blipFill>
        <p:spPr>
          <a:xfrm>
            <a:off x="507960" y="76320"/>
            <a:ext cx="8115480" cy="43624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2"/>
          <p:cNvSpPr/>
          <p:nvPr/>
        </p:nvSpPr>
        <p:spPr>
          <a:xfrm>
            <a:off x="1116000" y="4572000"/>
            <a:ext cx="666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следовательно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Рисунок 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43480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1011960" y="4643280"/>
            <a:ext cx="687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следовательной вытяжки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вки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6" name="Рисунок 1" descr=""/>
          <p:cNvPicPr/>
          <p:nvPr/>
        </p:nvPicPr>
        <p:blipFill>
          <a:blip r:embed="rId1"/>
          <a:stretch/>
        </p:blipFill>
        <p:spPr>
          <a:xfrm>
            <a:off x="290520" y="0"/>
            <a:ext cx="8534520" cy="44388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"/>
          <p:cNvSpPr/>
          <p:nvPr/>
        </p:nvSpPr>
        <p:spPr>
          <a:xfrm>
            <a:off x="1785960" y="457200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, отборт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Рисунок 1" descr=""/>
          <p:cNvPicPr/>
          <p:nvPr/>
        </p:nvPicPr>
        <p:blipFill>
          <a:blip r:embed="rId1"/>
          <a:stretch/>
        </p:blipFill>
        <p:spPr>
          <a:xfrm>
            <a:off x="95400" y="76320"/>
            <a:ext cx="8896320" cy="41623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"/>
          <p:cNvSpPr/>
          <p:nvPr/>
        </p:nvSpPr>
        <p:spPr>
          <a:xfrm>
            <a:off x="1190160" y="4495680"/>
            <a:ext cx="69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следовательной вытяжк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вки, отбортовки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733320" y="1657440"/>
            <a:ext cx="7677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743680" cy="58197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2301840" y="6095880"/>
            <a:ext cx="47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брезки проби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1"/>
          <a:stretch/>
        </p:blipFill>
        <p:spPr>
          <a:xfrm>
            <a:off x="152280" y="-149400"/>
            <a:ext cx="8763120" cy="6105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997560" y="6107040"/>
            <a:ext cx="72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и чеканки (формовк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Рисунок 1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9010800" cy="60008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>
            <a:off x="2509920" y="616752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трезки и ги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Рисунок 1" descr=""/>
          <p:cNvPicPr/>
          <p:nvPr/>
        </p:nvPicPr>
        <p:blipFill>
          <a:blip r:embed="rId1"/>
          <a:stretch/>
        </p:blipFill>
        <p:spPr>
          <a:xfrm>
            <a:off x="905040" y="6480"/>
            <a:ext cx="7353000" cy="64008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1840320" y="6254640"/>
            <a:ext cx="58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и отборт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Рисунок 1" descr=""/>
          <p:cNvPicPr/>
          <p:nvPr/>
        </p:nvPicPr>
        <p:blipFill>
          <a:blip r:embed="rId1"/>
          <a:stretch/>
        </p:blipFill>
        <p:spPr>
          <a:xfrm>
            <a:off x="7920" y="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2325960" y="6249960"/>
            <a:ext cx="49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и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Рисунок 1" descr=""/>
          <p:cNvPicPr/>
          <p:nvPr/>
        </p:nvPicPr>
        <p:blipFill>
          <a:blip r:embed="rId1"/>
          <a:stretch/>
        </p:blipFill>
        <p:spPr>
          <a:xfrm>
            <a:off x="266760" y="0"/>
            <a:ext cx="8562960" cy="62485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2155320" y="6184800"/>
            <a:ext cx="522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ки и проби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53Z</dcterms:modified>
  <cp:revision>1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