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C5ED-7A1D-47A4-A3D6-833AAA6B0A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9CEC-6BCD-408C-9F71-55AAE88E3A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5384-1BC9-4A74-8F84-FC3DFA9763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94B-52B8-4382-B103-C0D0C50E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949-279B-4387-90A7-54D8E9C7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06E-ADC7-4A24-AA4D-D93ABE39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100-4068-4FC6-801E-1383FA92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C01F-FC79-4EA1-84F0-DE70E568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0115-57FC-4C4F-9EB2-5413D98D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DE61-4C12-45A9-9FA1-583082AD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5772-F323-45F0-B8A1-CDDF7E35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54D0-CD89-4D48-B47A-83024360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7C32-1BD0-479F-B893-9287C5A9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0898-0B7C-4937-B910-6EBA4A8B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0BF-234E-46D9-8AE5-A64E5FDC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00F9-B4B9-4FB9-A6CF-0258C731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A8FC-5B2C-41F2-9E08-6F4F3D71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393A-F0DB-4FC2-A5DD-0FBDA07F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1397-6EFD-4229-B508-7752AC6D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FBD4-1CEA-481E-B99B-FB1A0C07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6DD-B455-40C3-9BD2-EC859AB9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5BD-E6C1-40F7-999B-C8A808AC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3B3-2DCE-456A-AC4F-C47A41CC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24F-C35A-4789-85A8-0EF8786C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8CF-3FD8-48D3-B626-576CB50F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3B6-CE21-4B96-8B8E-B3CEEB66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9ED-84E1-4189-9C84-6F10BCEB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5E62-96CD-44E9-B0C8-5F275051474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B867-17F9-45F1-A224-CC8BBDD8810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142280" y="1371600"/>
            <a:ext cx="6956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атериалы,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рименяемые пр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изготовлении детале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листовой штамп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992160" y="1600200"/>
            <a:ext cx="698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массы на основе акрилов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 (акрилопласты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СТ-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акрилат самотвердею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хнический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стиракрил (протакрил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750960" y="2133720"/>
            <a:ext cx="7124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массы но основ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енольноформальдегидных смол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евесно-клеевая ма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КМ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песко-клеевая ма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К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511560" y="990720"/>
            <a:ext cx="8277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овой оснаст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изгото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риц, пуансонов, съемник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феров, прижимов и други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ют литьевой полиурета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ок СКУ-7Л, СКУ-ПФЛ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ребую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ительной вулканиза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уретан этих марок легко подда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идам обработки резание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574920" y="609480"/>
            <a:ext cx="8033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сти полиуретана: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четание пластичности с твёрдостью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ое сопротивление истиранию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ое сопротивление на разрыв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ое сопротивление сжат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до 250÷300 МПа)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ая стойкость пр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рных нагрузках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кость к действию масел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авленных кисло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ругих вещест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80880" y="304920"/>
          <a:ext cx="8305920" cy="549576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13372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тали штамп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арка сталей и материа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екоменду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Замен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пробивные и пробивны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ростой ф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ложной ф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10, У10А, Х12Ф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ВМ, Х6ВФ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6М5, ВК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5ХВ2С, ШХ15, Х12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7ХГ2ВФМ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для чистов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ырубки-пробивк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ростой ф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ложной ф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Ф1, Х6В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ВМ, Р6М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7ХГ2ВФМ, Р6М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вытяжные и формовоч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10А, Х12, ВК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Ф1, Х6В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гибоч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10А, Х6В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10, Х12Ф, ШХ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8" name="Заголовок 1"/>
          <p:cNvSpPr/>
          <p:nvPr/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304920"/>
          <a:ext cx="8305920" cy="604512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1337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тали штамп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арка сталей и материа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екоменду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Замен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для холодного выдавливания алюминия и ме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М, Р6М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Ф1, 7ХГ2ВФМ, Р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литы штампов лит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Чугун СЧ21-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Чугун СЧ22-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30Л, Сталь 40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литы штампов оста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0, Сталь 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востов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35, Сталь 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4, Ст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Колонки направляющ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20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, Сталь 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тулки направляющ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20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, Сталь 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тулки для шариковых направляющ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ШХ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172" name="Заголовок 1"/>
          <p:cNvSpPr/>
          <p:nvPr/>
        </p:nvSpPr>
        <p:spPr>
          <a:xfrm>
            <a:off x="4795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49280" y="843120"/>
          <a:ext cx="8305920" cy="461772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13372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тали штамп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арка сталей и материа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екоменду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Замен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одерж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35, 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одкладки под пуан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ъем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рижимы, направляющие планки, выталкив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0, 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по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Лови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8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7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Штиф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ин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руж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65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176" name="Заголовок 1"/>
          <p:cNvSpPr/>
          <p:nvPr/>
        </p:nvSpPr>
        <p:spPr>
          <a:xfrm>
            <a:off x="5256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411120" y="0"/>
            <a:ext cx="85042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ина в штампах применя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едующих случаях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честве рабочего инструмен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 при вырезке резиной 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гидравлических прессах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ри формовке и гибке н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гидравлических прессах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2) в качестве упругого амортизатора-буфера при штамповке на пресса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для съемников, выталкивателей, прижимов и т.п.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837000" y="762120"/>
            <a:ext cx="76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езки резиной применяю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ину повышенной тверд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о Шору 70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формовки-гибки рези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ют сорта средней тверд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о Шору 45-65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ки резиновой матриц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ют наиболее эласти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рта резины, допуска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ую степень деформаци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669600" y="304920"/>
            <a:ext cx="7697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ические массы применяю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едующих видов штамп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изгото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стью пластмассов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их детал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лицовки рабочей поверх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ансонов, матриц, прижим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тяжных штампо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крепления пуансонов,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тулок, заливки направля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ий в съемник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1011600" y="2057400"/>
            <a:ext cx="6944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ибольшее применение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товления штампов получи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массы на основ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поксидны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енольно-формальдегидны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криловых смо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44080" y="838080"/>
            <a:ext cx="876528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массы на основе эпоксид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 (эпоксипласты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ая механическая проч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ffffff"/>
                </a:solidFill>
                <a:latin typeface="Verdana"/>
              </a:rPr>
              <a:t>σ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60÷250 МП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малая усадка (от 0,1 до 0,2%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) высокая адгезия (прилипаемость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) устойчивость к действию влаги и масе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) теплостойкость от -20 до +100°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0:59Z</dcterms:modified>
  <cp:revision>2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